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1758AEE6-3915-49CA-96FF-4185A1F83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1AE19F6F-9ABE-4BB5-A7F4-CAD4F3D0FEBA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1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2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4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6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7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>Tanel Tammet</cp:lastModifiedBy>
  <dcterms:modified xsi:type="dcterms:W3CDTF">2023-09-07T17:24:38Z</dcterms:modified>
  <cp:revision>4</cp:revision>
  <dc:subject/>
  <dc:title> </dc:title>
</cp:coreProperties>
</file>